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8816-F034-4C53-9D7B-4AE2BEDD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518-7031-4A77-8304-2275BE08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41B7-921C-4C8A-9D7C-3A78A4DF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7E99-719E-459F-B53F-FCF6B37C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FAE4-4D03-4224-A470-1C9450C9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DD54-51D4-4EBB-828E-216F6901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9BE5-AAB7-4A9D-8374-565F1E06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958-A2BA-4A4E-BE3B-2A9DDD4B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F2C-04F6-404C-8177-7A14A9AB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D03D-25EE-45C8-A47C-BF259359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AD18-F707-4903-9E8F-2F38F3F3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4202-2AD9-498A-B66B-97D93B6C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F483-6BD6-4598-80B3-520ECEB6B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79640" y="1773360"/>
            <a:ext cx="5113440" cy="21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FETTE</a:t>
            </a:r>
            <a:endParaRPr b="1" lang="en-US" sz="5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87640" y="5084640"/>
            <a:ext cx="4937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urier New"/>
              </a:rPr>
              <a:t>von Julika &amp; Jenna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Was ist Fett &amp; wie ist es aufgeba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organische Verbin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ölige, schmierige, wachsartige Substa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Triglyce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8 bis 24 Kohlenstoffat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Reiner Zust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- kein Geschm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- keine Far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- kein Geruch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Fettsä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uppe organischer Sto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stehen bei der Hydrolyse von Fe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. B. Methan- u. Ameisensä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rden als Rohstoffe eingesetz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earinsä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sättigte und Ungesättigte Fettsä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igenschaf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Schmelzpun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Löslich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Rauchpun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Chemische Kennzah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Verseifungsza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Iodza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Säureza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Fette in der Ernäh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chtbare F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steckte F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tt als Geschmacksträ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3:52:12Z</dcterms:created>
  <dc:creator>template</dc:creator>
  <dc:description/>
  <dc:language>en-US</dc:language>
  <cp:lastModifiedBy>BBS Winsen</cp:lastModifiedBy>
  <dcterms:modified xsi:type="dcterms:W3CDTF">2006-09-28T08:32:05Z</dcterms:modified>
  <cp:revision>3</cp:revision>
  <dc:subject/>
  <dc:title>Folie 1</dc:title>
</cp:coreProperties>
</file>